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941CA-8C6F-4CFC-BDFF-BA8B189E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CF398-067C-45AF-B316-5EF47E2A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4E3A9-370E-485D-B157-B0621A048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18449-D2EF-401D-87C1-3E90AADF1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131D-AAF0-41A0-8A86-FBD662BDA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6AFE-D555-4B43-9FBD-B940A38F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039D-CE95-4069-8A3E-E4CA77E4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A294-F2F6-4BC4-896F-85CA2D48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510C-4759-463B-B87E-5C4C3631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9BD1-B564-4EB4-BA35-C6615FCB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E623-BCE8-4A38-BF7E-68748E46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AE8BE-D51C-4779-AAA1-FBFD4EBA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8A1F-6667-4B64-906F-0760C5C6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C5D1-FF5C-46F0-9BFC-1925B268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255E-59F1-4278-92F6-C2624179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65D0-1640-4837-BA15-1B86CD587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B44D-CAC1-4E76-B853-B4381276D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5D2A5-43C5-47A2-8BFE-2C86E951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0CFD5-AF79-42B0-A0AB-BD0ECFD7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C52F1-BA4C-4C0F-8104-D95CAE05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B1A29-3629-4011-8401-FA00419E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14C7B-1252-4893-9AE8-C8409506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29FFA-63B2-427E-9928-448771C7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B2132-36CA-4DFF-B438-89C03278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2c2c2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ababa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dada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5d5d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5d5d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1c1c1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AD73-16F6-430D-BA9C-8A0DB57443A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2c2c2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ababa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dada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5d5d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5d5d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1c1c1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6C81-7ABB-4092-9536-D6EB39C4945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5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668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Century Gothic"/>
              </a:rPr>
              <a:t>Las Comidas</a:t>
            </a:r>
            <a:endParaRPr b="0" lang="en-US" sz="4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y: Laura Bradsha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f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Rockwell"/>
              </a:rPr>
              <a:t>Desayuno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1523880" cy="1495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80880" y="33526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Brin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095880" y="1828800"/>
            <a:ext cx="2095560" cy="1397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095880" y="33526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Rockwell"/>
              </a:rPr>
              <a:t>Huevos Sunnys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581280" y="2514600"/>
            <a:ext cx="1638360" cy="1528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352680" y="45720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41148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Rockwell"/>
              </a:rPr>
              <a:t>Toc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533520" y="4114800"/>
            <a:ext cx="1752480" cy="1541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3520" y="579132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Rockwell"/>
              </a:rPr>
              <a:t>Manz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6400800" y="4114800"/>
            <a:ext cx="1494000" cy="1743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400800" y="59436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Rockwell"/>
              </a:rPr>
              <a:t>Jugo de manz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Felix Titling"/>
              </a:rPr>
              <a:t>Almuerzo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1752480" cy="1166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9480" y="236232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elix Titling"/>
              </a:rPr>
              <a:t>SÁndw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705720" y="1371600"/>
            <a:ext cx="1828800" cy="1079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705720" y="25146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elix Titling"/>
              </a:rPr>
              <a:t>Papas Fri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990720" y="4191120"/>
            <a:ext cx="1396800" cy="1396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90720" y="563868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elix Titling"/>
              </a:rPr>
              <a:t>Ensalada Ceas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7086600" y="4343400"/>
            <a:ext cx="1305000" cy="15238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086600" y="59436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elix Titling"/>
              </a:rPr>
              <a:t>Jugo de manz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3733920" y="2362320"/>
            <a:ext cx="1904760" cy="14904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809880" y="38862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elix Titling"/>
              </a:rPr>
              <a:t>Naran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La Cena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1876320" cy="13809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62120" y="2819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llo Parmez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095880" y="1523880"/>
            <a:ext cx="2210040" cy="14623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324480" y="312408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733920" y="2819520"/>
            <a:ext cx="1914480" cy="1438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733920" y="44197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ge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1143000" y="4038480"/>
            <a:ext cx="1600200" cy="14558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143000" y="556272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u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é de Pap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6934320" y="3886200"/>
            <a:ext cx="1125360" cy="1981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934320" y="5943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ca  C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2:07:50Z</dcterms:created>
  <dc:creator>bradshawlau</dc:creator>
  <dc:description/>
  <dc:language>en-US</dc:language>
  <cp:lastModifiedBy>bradshawlau</cp:lastModifiedBy>
  <dcterms:modified xsi:type="dcterms:W3CDTF">2011-04-14T18:10:26Z</dcterms:modified>
  <cp:revision>3</cp:revision>
  <dc:subject/>
  <dc:title>Las Comidas</dc:title>
</cp:coreProperties>
</file>